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9FE-A36D-446D-8F77-963688AB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6AA-9662-4388-9639-E33A2832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23F-87A5-4EE5-9D36-85C8B5C6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ED4-E4B4-4B74-A3FA-3FA2A924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342-E627-47BD-AE6F-B2A15459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E48-5407-4143-BA9D-0B7959F5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AEB-FA61-446B-B428-6225CECD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5DE-259F-40F7-848C-F9D4846B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540-226E-45A4-A617-D108DDC5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C05-5635-4FF3-9640-A8680456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D0D-C0C7-477B-A6AA-FD439A68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FB1-AC75-4BD9-AA0D-3C062704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E495-A694-4010-AF6D-939358A52CC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FF06-1FA3-42CB-A16C-15A2D4C92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6.xml"/><Relationship Id="rId14" Type="http://schemas.openxmlformats.org/officeDocument/2006/relationships/slide" Target="slide28.xml"/><Relationship Id="rId15" Type="http://schemas.openxmlformats.org/officeDocument/2006/relationships/slide" Target="slide30.xml"/><Relationship Id="rId16" Type="http://schemas.openxmlformats.org/officeDocument/2006/relationships/slide" Target="slide32.xml"/><Relationship Id="rId17" Type="http://schemas.openxmlformats.org/officeDocument/2006/relationships/slide" Target="slide34.xml"/><Relationship Id="rId18" Type="http://schemas.openxmlformats.org/officeDocument/2006/relationships/slide" Target="slide36.xml"/><Relationship Id="rId19" Type="http://schemas.openxmlformats.org/officeDocument/2006/relationships/slide" Target="slide38.xml"/><Relationship Id="rId20" Type="http://schemas.openxmlformats.org/officeDocument/2006/relationships/slide" Target="slide40.xml"/><Relationship Id="rId21" Type="http://schemas.openxmlformats.org/officeDocument/2006/relationships/slide" Target="slide42.xml"/><Relationship Id="rId22" Type="http://schemas.openxmlformats.org/officeDocument/2006/relationships/slide" Target="slide44.xml"/><Relationship Id="rId23" Type="http://schemas.openxmlformats.org/officeDocument/2006/relationships/slide" Target="slide44.xml"/><Relationship Id="rId24" Type="http://schemas.openxmlformats.org/officeDocument/2006/relationships/slide" Target="slide48.xml"/><Relationship Id="rId25" Type="http://schemas.openxmlformats.org/officeDocument/2006/relationships/slide" Target="slide50.xml"/><Relationship Id="rId26" Type="http://schemas.openxmlformats.org/officeDocument/2006/relationships/slide" Target="slide2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5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6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6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223-9AD4-44EC-85CD-01C74732C28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7337-4448-4458-8A75-19AA8DE3D035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7B5-1984-439D-8D41-D1523107A2C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FB2-BC36-4AED-B125-379BF366A0AF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682-8255-45F8-80B3-10805461EC1C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D03-D85A-4A45-87A4-F126A6322CC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C87-B704-4B09-995B-75FB65E78734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8AA-56E3-485E-BD7C-BFBFE0765E9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068-8EB2-4F67-87C2-043BB78BFB72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D7E-6244-4ABD-8D61-10CB5996CAE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76F-BD1C-41BA-991C-584F51366463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3800" y="23274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B9D-378B-4AD8-A314-5B0E01A2D07D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594-7138-4240-960F-B4FF25116652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01C-34EA-43AB-BF8F-6A70DC67906B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789-2C5B-45D6-BB96-25957631A69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1BB7-8001-4213-A475-051E03C0B99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382D-EA22-427F-A42C-2F4E42E3A102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C52-28C7-4314-A3F6-5CEA89ED29A8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705-6015-4628-8CFE-1EE77871CAB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0EF-22DA-43EF-8DF5-C1A83191EF2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F42-B75E-4CEB-A661-592D8A323E32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142-20BD-4BF2-A3CF-FB4A2CDD4882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88A-8DEF-4D93-8F4D-B5983B9E1494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B6A-0FE0-40DC-9A7F-CCD36966CEA0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927-70D5-4793-B9F1-C1416B022D19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CB5-32E8-41E2-8B2A-D5D27902F31D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DB5-8874-41A1-89C2-B2EDC4996694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D53-F839-4293-92EA-65C4AD29858A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84B-B784-4885-A4AB-B54BAB64000A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6F8-D467-43BD-BB53-4A0823D21D3A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8D5-05B8-410D-B7BB-4D1C5D0F9F1C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09D-3483-4E8F-80BD-4F9601E3B2B9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C10-ED96-4CDC-BD7E-6F264D24B8A5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BF4-834A-4671-8BE4-CA27B944757A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7A57-9F0E-4E94-910D-D3B85173F89A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F60-56BB-43D6-BB8F-78668FE399A9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572-CEC1-408B-B3AC-531610D7323B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F03-FE81-40BD-9BAE-6CA73B60CDB9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42E-946C-4359-A8BB-91D6CD18293D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CB7-5FA6-4B34-AC66-62E7EFD6611C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571-2FF7-4FDD-831E-42D092378771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153-92D8-41C3-AAF7-0CB664B5EF2F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4447-7190-4854-A754-DF429548D79F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8B2-ABBB-4054-97DC-78F936BC9877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93F-C06D-46E9-ADF7-1D258563BB0D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10A-FB4F-4189-B8EB-01F93E0DFBFA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672-11C0-495F-B0B2-0628CC89AD3A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AB5-D994-4E8B-9901-A46E1713C617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417-C4F7-4E07-BB5B-295D00AEE0E4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87F-CBF5-4738-ABDE-6B0FDCE105A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FB0-42A0-470B-BE8C-A3CDA3D78821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M. Johnson</cp:lastModifiedBy>
  <dcterms:modified xsi:type="dcterms:W3CDTF">2000-11-02T09:00:51Z</dcterms:modified>
  <cp:revision>32</cp:revision>
  <dc:subject/>
  <dc:title>Blank Jeopardy</dc:title>
</cp:coreProperties>
</file>